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FEB-DBC6-469C-A162-C3B1130F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A8C3-A064-4F38-B5AC-B089C41A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3B257-2C41-40FF-A0D0-8BBF8838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CF602F-B3ED-40D8-AD93-67749D34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FB747C-9AC0-4ABC-9245-827EC957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E9E980-0D7D-4498-9E90-C4D21957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2BC4E-7783-44D5-ACC2-F193411C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055F33-72CA-4ACF-9594-B3F6000C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444D32-CE5B-495D-9DB2-36ECAD27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85EC10-7EFD-4C00-8D0E-FB2F372D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9E1BE1-B62C-443B-9BA9-EEC02557B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58428A-C2CE-47BD-9FED-8649A733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74C-62AE-4C7A-98A6-B140D168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D0896-BC01-441B-8FF6-8C70E430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D0F7B-FFC7-4646-A4D9-9DCB8BEB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F87B01-7476-4839-AEB8-7B4EC2FF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44FF9D-915F-47E6-A194-086189BF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2294C8-C18E-4843-AAED-9D71806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230B3-C2FB-4E1A-B7A3-7B6B6A8F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7071A-30C3-43A5-BE3B-FCC254B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88F99-E28D-45B1-8E21-5604A76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B9E2F7-5EDF-49F6-B795-0F644407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9C2F7-93D6-41FB-AFFB-A10D5108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882-0839-461E-BBAD-5FCE18BD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370A96-1C1D-4349-B5B1-B4228D24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E2F4E-04B6-4129-BA4E-797B46758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9B415-FC26-49E6-BDB8-F09AA218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4CABF-1C55-4445-891C-A4E605E5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32B6E-889D-4749-A837-1740736B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51739-18D7-4E2D-9293-B501EE08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16411-0950-4F17-BA01-5A58D10A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09270-197C-46BC-87E8-BE780705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5A988-4B2B-4CB5-AA89-E38D340A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2727-F311-4B6D-8DBE-8835E4D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4D7D-0F47-4999-A74C-4BAB521F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5F56F-F22B-4040-B4E6-81570DE0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953D1-077B-4E12-BD46-1A6DFCCB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0AEA5-67FE-4F73-B5DA-F2E4741F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BE264A-01E4-4840-961B-A32D4027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76994E-D8C7-4578-B3FE-1634B870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862A66-DF76-448D-81E6-188A71D8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78B590-6409-49F6-8725-29C70090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C5939-2502-4B8A-BB3B-401C8CE3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C76D3-43C0-498B-AA44-9309118E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332D8-406E-4705-8898-AA210788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7D23-67C1-46BE-BD0C-4E466CD0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B03BB7-875F-4699-8457-761CBA06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52F33-04FA-410B-8F2D-11648654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F12F9-6343-4849-A6ED-81F54BCF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BA1B8-2DC9-491F-A4DD-F152B9E1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33829-6C9E-4807-95A7-4F7475EE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2F5C-A6D9-4FCB-965E-DA4D4998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6EC1-D26F-42FA-8327-BD8CE5B2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B350-856F-4A25-B018-1734035D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3F04-D077-4BB7-868F-D8B326DA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ABC7-BFD7-477B-A4C0-2AB0D98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3DE-12C4-4E71-82A6-210D01A8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261B-4447-49F1-8ED5-69FF14F7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BB32-2D4C-4362-BA06-9C84310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8BCD-C71A-4DA2-BE3F-BB7B53ED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BB7F-8FF6-4C4C-9231-767A3222B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017C-3C0A-4F47-A29C-94BC580D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BD965-CE14-4C87-850A-479438A61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63D8-FD76-4FDA-8175-C7373EE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7846-F1EB-48FF-A305-9AA1723F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BF29C-BC79-447A-AE08-4821DFED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0E8DB-B2DF-4001-90CE-040CA4EE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7D5-C0A7-4DFB-A3C1-078A8824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E5E93-7D22-4254-A40B-B2A74083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D418B-8488-4ADA-901A-AC4747AB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9A37-3693-4CE6-A18C-2C8E2CB5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92A57-43DC-4CD5-A41D-CA3CFD82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B497-C373-43AF-8970-A452B539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2442-1A5F-4068-B264-EC03EABC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7079F-A559-4E22-A20A-BA950AF4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399D1-44E8-4782-8D9E-194AD7EA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94C5B-A4F4-4A02-A872-BC91D97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C3628-DE6C-4DFD-898E-D4248B3F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3C3-D753-49C3-9920-7BF0AFF5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6311-2C64-4CE8-96F6-93A1F24A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F57D1-3961-46F6-A26E-7F6DB008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8FF5D-1AD9-4D08-86DB-8F8BE78D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4A702-C546-43EF-B2CC-AC50904F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F55F-3A0F-4F60-A26A-3E3AA59D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F2060-34EB-43A1-B264-E00B4110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8CDEF-CC8B-4A09-9790-D1D221D7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6E2D2-0253-43E5-8579-E213FCE4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FF71-AE42-460C-941B-CF76A240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CF1D-6259-4DA8-AED8-1A8B5042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F621-89BF-427B-AB18-1F765C3F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ECC8D-375A-4FD5-B274-5E22AC14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2A39B-6042-44FE-B0F6-A3D30578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3EDC-2029-4368-A4CE-92088CA6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0872F-C5CF-4D42-8633-71A3EB5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D8148-35F1-49AE-BF03-23B9F72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699DF-6DAA-4628-9804-C0275128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E829-D028-4112-93DE-BE45C42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8270-90E3-4053-895E-3320B6E7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AE030-C672-4F58-AA97-04EDC65B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C1AE-5B87-4E7B-9821-1677ACBC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C8B-CF9B-4211-B251-9A1B8AD2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173C2-6EFE-493F-8819-A3B99CB0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8C671-9967-40BC-A86F-B1610F5A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0A1B6-2404-4858-8AB8-D12382D0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C7CAC-D7F5-4AB9-AEA7-ADDA8DA8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CC4A5-AA12-43BA-BB6D-B2628754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5FE3D-0FD8-4831-A979-716D4717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35E86-598F-4843-9DA0-C54FE06F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C9A9A-D56E-4637-86E2-BA772DD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D193-5212-4E94-AD13-9B38CCB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BB7E-F06A-40A7-8293-3CC0BAB2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A31-6172-4AC0-915C-5584DEE4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46AFB-7485-4DD4-BFDE-FE0E05AA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F25B5-E376-45E3-83B5-85ACFE2B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28679-DFFE-49B9-BF72-3297E2EC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B6503-1186-434B-B3EA-F89F282F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B4867-84F3-4F70-9483-3FF5C756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4B3C-272A-4C59-BE95-45E4D958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E5536-B1B8-48DA-817B-48AB218D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2D410-67E1-4D9A-9B34-49936FF7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E34A5-B149-416F-8381-94E975A2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B8D3-D59A-421B-916A-343E2AFC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5C6-38FE-4931-B348-805CA273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E5342-9E52-4A7A-A443-E578BE9A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B53FA-80CC-4829-A8CB-D99E247D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15F85-770F-4C30-93C2-4B7C1252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9F26C-D600-4E1B-B12D-B94C656B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383C-E969-48DC-BE53-04C5402A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88E5F-33A2-4162-BBC9-A5BED1FC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B7333-1127-411B-8C2C-CCDB5805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F8FCA-887E-456B-84F6-31C4F204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ADBD7-9760-4B59-A251-8FAA5BDA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9D131-F3C4-43A4-B33C-223EEDE4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B77B-3BB5-4876-AD64-665D1969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8F93B-FD08-448C-BFD4-E6FF06D5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92D05-9568-407B-8B2C-8B5560C5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69038-05A2-46ED-99C9-11BBDA5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629B6-1F5C-4BBC-9201-F0E2A39B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3D276-8E48-4E0C-84D0-0B6F2C14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74E8B-E10B-47D7-8FE0-9C01E95E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E372B-D429-4C04-AB1D-06A0C231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49CF29-AF98-4BD5-AEBD-AA6DA40F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99568-A938-41D2-9944-AB363206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91A01B-D910-4365-8917-12E99156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4DC5-A8B1-4176-BACA-BC0BF89D11B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4D87-8F1A-4FAB-8273-EE557B410F7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13D0-D608-4BE2-A5F2-E1E12AEAF6F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B569-A7C7-4057-A45E-CFE91438B30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34C0-428A-42B0-A290-26BE569EB05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130E-5DD4-4DA3-9A78-26491C96EEA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ABE1-CA9B-4F37-80C3-1FB6F6B7D04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A600-0F96-4020-B3A6-884EACC16FA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2BF0-75C4-4AA1-AF1A-35325EF489F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274B-E129-4D86-98AF-17B9E490341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F859-CFDC-43F7-A2F2-63D436E59B76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C658-755A-4BF0-A318-D01CE6D0FEA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CARPA&#354;II%20ORIENTALI.pptx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17.xml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" Target="slide5.xm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285920" y="3286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46b86"/>
                </a:solidFill>
                <a:latin typeface="Georgia"/>
              </a:rPr>
              <a:t>JOC PENTRU EVALUAREA ELEVIL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200" spc="-1" strike="noStrike">
                <a:solidFill>
                  <a:srgbClr val="d16349"/>
                </a:solidFill>
                <a:latin typeface="Georgia"/>
              </a:rPr>
              <a:t>CARPAŢII MERIDIONALI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Action Button: Forward or Next 3">
            <a:hlinkClick r:id="" action="ppaction://hlinkshowjump?jump=nextslide"/>
          </p:cNvPr>
          <p:cNvSpPr/>
          <p:nvPr/>
        </p:nvSpPr>
        <p:spPr>
          <a:xfrm>
            <a:off x="3786120" y="4429080"/>
            <a:ext cx="1714680" cy="428760"/>
          </a:xfrm>
          <a:custGeom>
            <a:avLst/>
            <a:gdLst>
              <a:gd name="textAreaLeft" fmla="*/ 27720 w 1714680"/>
              <a:gd name="textAreaRight" fmla="*/ 1686960 w 171468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86328" h="21600">
                <a:moveTo>
                  <a:pt x="0" y="0"/>
                </a:moveTo>
                <a:lnTo>
                  <a:pt x="86328" y="0"/>
                </a:lnTo>
                <a:lnTo>
                  <a:pt x="86328" y="21600"/>
                </a:lnTo>
                <a:lnTo>
                  <a:pt x="0" y="21600"/>
                </a:lnTo>
                <a:close/>
              </a:path>
              <a:path fill="lightenLess" w="86328" h="21600">
                <a:moveTo>
                  <a:pt x="0" y="0"/>
                </a:moveTo>
                <a:lnTo>
                  <a:pt x="86328" y="0"/>
                </a:lnTo>
                <a:lnTo>
                  <a:pt x="84928" y="1400"/>
                </a:lnTo>
                <a:lnTo>
                  <a:pt x="1400" y="1400"/>
                </a:lnTo>
                <a:close/>
              </a:path>
              <a:path fill="darken" w="86328" h="21600">
                <a:moveTo>
                  <a:pt x="86328" y="0"/>
                </a:moveTo>
                <a:lnTo>
                  <a:pt x="86328" y="21600"/>
                </a:lnTo>
                <a:lnTo>
                  <a:pt x="84928" y="20200"/>
                </a:lnTo>
                <a:lnTo>
                  <a:pt x="84928" y="1400"/>
                </a:lnTo>
                <a:close/>
              </a:path>
              <a:path fill="darkenLess" w="86328" h="21600">
                <a:moveTo>
                  <a:pt x="86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28" y="20200"/>
                </a:lnTo>
                <a:close/>
              </a:path>
              <a:path fill="lighten" w="86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328" h="21600">
                <a:moveTo>
                  <a:pt x="36157" y="3794"/>
                </a:moveTo>
                <a:lnTo>
                  <a:pt x="50170" y="10800"/>
                </a:lnTo>
                <a:lnTo>
                  <a:pt x="3615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4"/>
          <p:cNvSpPr/>
          <p:nvPr/>
        </p:nvSpPr>
        <p:spPr>
          <a:xfrm>
            <a:off x="1714680" y="4286160"/>
            <a:ext cx="20001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5"/>
          <p:cNvSpPr/>
          <p:nvPr/>
        </p:nvSpPr>
        <p:spPr>
          <a:xfrm>
            <a:off x="357120" y="5072040"/>
            <a:ext cx="485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CEPUT</a:t>
            </a: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 ŞI REALIZA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ÎNV. </a:t>
            </a:r>
            <a:r>
              <a:rPr b="1" lang="ro-RO" sz="1800" spc="-1" strike="noStrike">
                <a:solidFill>
                  <a:srgbClr val="000000"/>
                </a:solidFill>
                <a:latin typeface="Georgia"/>
              </a:rPr>
              <a:t>ANGELICĂ GHERGHIŞEAN</a:t>
            </a: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ŞCOALA LUNCAVIŢA, JUD. TULC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6" descr="DCFC0462.JPG"/>
          <p:cNvPicPr/>
          <p:nvPr/>
        </p:nvPicPr>
        <p:blipFill>
          <a:blip r:embed="rId2"/>
          <a:stretch/>
        </p:blipFill>
        <p:spPr>
          <a:xfrm>
            <a:off x="5715000" y="4000680"/>
            <a:ext cx="31431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46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3840" y="64296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7b9899"/>
                </a:solidFill>
                <a:latin typeface="Georgia"/>
              </a:rPr>
              <a:t>4.CELE MAI ÎNALTE VÂRFURI, </a:t>
            </a: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MOLDOVEANU(2544m) ŞI NEGOIU(2535m) </a:t>
            </a:r>
            <a:r>
              <a:rPr b="0" lang="ro-RO" sz="2800" spc="-1" strike="noStrike">
                <a:solidFill>
                  <a:srgbClr val="7b9899"/>
                </a:solidFill>
                <a:latin typeface="Georgia"/>
              </a:rPr>
              <a:t>FAC PARTE DIN GRUPA MUNŢILOR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Content Placeholder 2"/>
          <p:cNvSpPr/>
          <p:nvPr/>
        </p:nvSpPr>
        <p:spPr>
          <a:xfrm>
            <a:off x="453960" y="1679400"/>
            <a:ext cx="8504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RETEZAT-GODEANU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BUCEG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FĂGĂRAŞULU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DSCF4954.JPG"/>
          <p:cNvPicPr/>
          <p:nvPr/>
        </p:nvPicPr>
        <p:blipFill>
          <a:blip r:embed="rId1"/>
          <a:stretch/>
        </p:blipFill>
        <p:spPr>
          <a:xfrm>
            <a:off x="4381560" y="3143160"/>
            <a:ext cx="4476600" cy="3357720"/>
          </a:xfrm>
          <a:prstGeom prst="rect">
            <a:avLst/>
          </a:prstGeom>
          <a:ln w="0">
            <a:noFill/>
          </a:ln>
        </p:spPr>
      </p:pic>
      <p:sp>
        <p:nvSpPr>
          <p:cNvPr id="651" name="Action Button: Custom 5">
            <a:hlinkClick r:id="rId2" action="ppaction://hlinksldjump"/>
          </p:cNvPr>
          <p:cNvSpPr/>
          <p:nvPr/>
        </p:nvSpPr>
        <p:spPr>
          <a:xfrm>
            <a:off x="785880" y="271476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ction Button: Custom 6">
            <a:hlinkClick r:id="rId3" action="ppaction://hlinksldjump"/>
          </p:cNvPr>
          <p:cNvSpPr/>
          <p:nvPr/>
        </p:nvSpPr>
        <p:spPr>
          <a:xfrm>
            <a:off x="785880" y="3714840"/>
            <a:ext cx="428400" cy="50004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ction Button: Custom 7">
            <a:hlinkClick r:id="" action="ppaction://hlinkshowjump?jump=nextslide"/>
          </p:cNvPr>
          <p:cNvSpPr/>
          <p:nvPr/>
        </p:nvSpPr>
        <p:spPr>
          <a:xfrm>
            <a:off x="785880" y="4643280"/>
            <a:ext cx="428400" cy="500400"/>
          </a:xfrm>
          <a:custGeom>
            <a:avLst/>
            <a:gdLst>
              <a:gd name="textAreaLeft" fmla="*/ 27720 w 428400"/>
              <a:gd name="textAreaRight" fmla="*/ 400680 w 428400"/>
              <a:gd name="textAreaTop" fmla="*/ 27720 h 500400"/>
              <a:gd name="textAreaBottom" fmla="*/ 472680 h 500400"/>
            </a:gdLst>
            <a:ahLst/>
            <a:rect l="textAreaLeft" t="textAreaTop" r="textAreaRight" b="textAreaBottom"/>
            <a:pathLst>
              <a:path w="21600" h="25227">
                <a:moveTo>
                  <a:pt x="0" y="0"/>
                </a:moveTo>
                <a:lnTo>
                  <a:pt x="21600" y="0"/>
                </a:lnTo>
                <a:lnTo>
                  <a:pt x="21600" y="25227"/>
                </a:lnTo>
                <a:lnTo>
                  <a:pt x="0" y="25227"/>
                </a:lnTo>
                <a:close/>
              </a:path>
              <a:path fill="lightenLess" w="21600" h="252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7">
                <a:moveTo>
                  <a:pt x="21600" y="0"/>
                </a:moveTo>
                <a:lnTo>
                  <a:pt x="21600" y="25227"/>
                </a:lnTo>
                <a:lnTo>
                  <a:pt x="20200" y="23827"/>
                </a:lnTo>
                <a:lnTo>
                  <a:pt x="20200" y="1400"/>
                </a:lnTo>
                <a:close/>
              </a:path>
              <a:path fill="darkenLess" w="21600" h="25227">
                <a:moveTo>
                  <a:pt x="21600" y="25227"/>
                </a:moveTo>
                <a:lnTo>
                  <a:pt x="0" y="25227"/>
                </a:lnTo>
                <a:lnTo>
                  <a:pt x="1400" y="23827"/>
                </a:lnTo>
                <a:lnTo>
                  <a:pt x="20200" y="23827"/>
                </a:lnTo>
                <a:close/>
              </a:path>
              <a:path fill="lighten" w="21600" h="25227">
                <a:moveTo>
                  <a:pt x="0" y="252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56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59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56760" y="428400"/>
            <a:ext cx="853452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5.ÎN GRUPA MUNŢILOR </a:t>
            </a:r>
            <a:r>
              <a:rPr b="0" lang="ro-RO" sz="3300" spc="-1" strike="noStrike">
                <a:solidFill>
                  <a:srgbClr val="ff0000"/>
                </a:solidFill>
                <a:latin typeface="Georgia"/>
              </a:rPr>
              <a:t>PARÂNGULUI</a:t>
            </a: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 SE AFLĂ RUINELE CETĂŢII DACICE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ARRUBIU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SARMIZEGETUS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INOGEŢI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Action Button: Custom 3">
            <a:hlinkClick r:id="rId1" action="ppaction://hlinksldjump"/>
          </p:cNvPr>
          <p:cNvSpPr/>
          <p:nvPr/>
        </p:nvSpPr>
        <p:spPr>
          <a:xfrm>
            <a:off x="500040" y="30002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ction Button: Custom 4">
            <a:hlinkClick r:id="" action="ppaction://hlinkshowjump?jump=nextslide"/>
          </p:cNvPr>
          <p:cNvSpPr/>
          <p:nvPr/>
        </p:nvSpPr>
        <p:spPr>
          <a:xfrm>
            <a:off x="500040" y="400068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ction Button: Custom 5">
            <a:hlinkClick r:id="rId2" action="ppaction://hlinksldjump"/>
          </p:cNvPr>
          <p:cNvSpPr/>
          <p:nvPr/>
        </p:nvSpPr>
        <p:spPr>
          <a:xfrm>
            <a:off x="500040" y="5000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6" descr="DSCF0010.JPG"/>
          <p:cNvPicPr/>
          <p:nvPr/>
        </p:nvPicPr>
        <p:blipFill>
          <a:blip r:embed="rId3"/>
          <a:srcRect l="39177" t="41240" r="22680" b="20276"/>
          <a:stretch/>
        </p:blipFill>
        <p:spPr>
          <a:xfrm>
            <a:off x="4500720" y="2357280"/>
            <a:ext cx="37764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68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71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5840" y="7142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9899"/>
                </a:solidFill>
                <a:latin typeface="Georgia"/>
              </a:rPr>
              <a:t>6.UNDE SE AFL</a:t>
            </a:r>
            <a:r>
              <a:rPr b="0" lang="ro-RO" sz="2800" spc="-1" strike="noStrike">
                <a:solidFill>
                  <a:srgbClr val="7b9899"/>
                </a:solidFill>
                <a:latin typeface="Georgia"/>
              </a:rPr>
              <a:t>Ă UN </a:t>
            </a: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PARC NAŢIONAL </a:t>
            </a:r>
            <a:r>
              <a:rPr b="0" lang="ro-RO" sz="2800" spc="-1" strike="noStrike">
                <a:solidFill>
                  <a:srgbClr val="7b9899"/>
                </a:solidFill>
                <a:latin typeface="Georgia"/>
              </a:rPr>
              <a:t>PENTRU OCROTIREA PLANTELOR ŞI ANIMALELOR RARE?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ÎN MUNŢII GODEAN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ÎN MUNŢII RETEZA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ÎN MUNŢII PARÂ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4" name="Picture 3" descr="DSCF5023.JPG"/>
          <p:cNvPicPr/>
          <p:nvPr/>
        </p:nvPicPr>
        <p:blipFill>
          <a:blip r:embed="rId1"/>
          <a:stretch/>
        </p:blipFill>
        <p:spPr>
          <a:xfrm>
            <a:off x="5072040" y="235728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675" name="Action Button: Custom 4">
            <a:hlinkClick r:id="rId2" action="ppaction://hlinksldjump"/>
          </p:cNvPr>
          <p:cNvSpPr/>
          <p:nvPr/>
        </p:nvSpPr>
        <p:spPr>
          <a:xfrm>
            <a:off x="500040" y="307188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ction Button: Custom 5">
            <a:hlinkClick r:id="" action="ppaction://hlinkshowjump?jump=nextslide"/>
          </p:cNvPr>
          <p:cNvSpPr/>
          <p:nvPr/>
        </p:nvSpPr>
        <p:spPr>
          <a:xfrm>
            <a:off x="500040" y="400068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ction Button: Custom 6"/>
          <p:cNvSpPr/>
          <p:nvPr/>
        </p:nvSpPr>
        <p:spPr>
          <a:xfrm>
            <a:off x="500040" y="500076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80" name="Action Button: Forward or Next 5"/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83" name="Action Button: Back or Previous 5"/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1. UNDE SE ÎNTIND CARPAŢII MERIDIONALI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HOTARUL DE NORD AL ŢĂTII       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NOASTRE, PÂNĂ LA VALEA PRAHOVE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VALEA PRAHOVEI, PÂNĂ LA VĂILE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RÂURILOR TIMIŞ, CERNA ŞI BISTRA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DE LA DUNĂRE,PÂNĂ LA VĂILE RÂURILOR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BARCĂU ŞI SOMEŞ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Action Button: Custom 4">
            <a:hlinkClick r:id="rId1" action="ppaction://hlinksldjump"/>
          </p:cNvPr>
          <p:cNvSpPr/>
          <p:nvPr/>
        </p:nvSpPr>
        <p:spPr>
          <a:xfrm>
            <a:off x="571680" y="171468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ction Button: Custom 5">
            <a:hlinkClick r:id="" action="ppaction://hlinkshowjump?jump=nextslide"/>
          </p:cNvPr>
          <p:cNvSpPr/>
          <p:nvPr/>
        </p:nvSpPr>
        <p:spPr>
          <a:xfrm>
            <a:off x="571680" y="314316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ction Button: Custom 6">
            <a:hlinkClick r:id="rId2" action="ppaction://hlinksldjump"/>
          </p:cNvPr>
          <p:cNvSpPr/>
          <p:nvPr/>
        </p:nvSpPr>
        <p:spPr>
          <a:xfrm>
            <a:off x="571680" y="45720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7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.</a:t>
            </a: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0" lang="ro-RO" sz="3300" spc="-1" strike="noStrike">
                <a:solidFill>
                  <a:srgbClr val="ff0000"/>
                </a:solidFill>
                <a:latin typeface="Georgia"/>
              </a:rPr>
              <a:t>BRAN, COZIA, TURNU ROŞU, LAINICI, BĂNIŢA, DOMAŞNEA </a:t>
            </a: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SUNT 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56760" y="1500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LACUR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TRECĂTORI (PASURI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VÂRFURI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Action Button: Custom 3"/>
          <p:cNvSpPr/>
          <p:nvPr/>
        </p:nvSpPr>
        <p:spPr>
          <a:xfrm>
            <a:off x="642960" y="250020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ction Button: Custom 4">
            <a:hlinkClick r:id="" action="ppaction://hlinkshowjump?jump=nextslide"/>
          </p:cNvPr>
          <p:cNvSpPr/>
          <p:nvPr/>
        </p:nvSpPr>
        <p:spPr>
          <a:xfrm>
            <a:off x="642960" y="342900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ction Button: Custom 5"/>
          <p:cNvSpPr/>
          <p:nvPr/>
        </p:nvSpPr>
        <p:spPr>
          <a:xfrm>
            <a:off x="642960" y="450072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6" descr="DSCF4967.JPG"/>
          <p:cNvPicPr/>
          <p:nvPr/>
        </p:nvPicPr>
        <p:blipFill>
          <a:blip r:embed="rId1"/>
          <a:stretch/>
        </p:blipFill>
        <p:spPr>
          <a:xfrm>
            <a:off x="5143680" y="3143160"/>
            <a:ext cx="380196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92" name="Action Button: Forward or Next 5"/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95" name="Action Button: Back or Previous 5"/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300" spc="-1" strike="noStrike">
                <a:solidFill>
                  <a:srgbClr val="7b9899"/>
                </a:solidFill>
                <a:latin typeface="Georgia"/>
              </a:rPr>
              <a:t>8.BOGĂŢIILE CARPAŢILOR MERIDIONALI SUNT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AUR, PLATINĂ, DIAMANT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CĂRBUNI, PĂDURI, PĂŞUNI, TURISM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CALCAR, ARGILĂ, URANI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98" name="Picture 3" descr="DSCF4959.JPG"/>
          <p:cNvPicPr/>
          <p:nvPr/>
        </p:nvPicPr>
        <p:blipFill>
          <a:blip r:embed="rId1"/>
          <a:stretch/>
        </p:blipFill>
        <p:spPr>
          <a:xfrm>
            <a:off x="5786280" y="392904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699" name="Action Button: Custom 4"/>
          <p:cNvSpPr/>
          <p:nvPr/>
        </p:nvSpPr>
        <p:spPr>
          <a:xfrm>
            <a:off x="642960" y="257184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ction Button: Custom 5"/>
          <p:cNvSpPr/>
          <p:nvPr/>
        </p:nvSpPr>
        <p:spPr>
          <a:xfrm>
            <a:off x="642960" y="442908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ction Button: Custom 6">
            <a:hlinkClick r:id="" action="ppaction://hlinkshowjump?jump=nextslide"/>
          </p:cNvPr>
          <p:cNvSpPr/>
          <p:nvPr/>
        </p:nvSpPr>
        <p:spPr>
          <a:xfrm>
            <a:off x="642960" y="3500280"/>
            <a:ext cx="428760" cy="500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400"/>
              <a:gd name="textAreaBottom" fmla="*/ 472680 h 500400"/>
            </a:gdLst>
            <a:ahLst/>
            <a:rect l="textAreaLeft" t="textAreaTop" r="textAreaRight" b="textAreaBottom"/>
            <a:pathLst>
              <a:path w="21600" h="25206">
                <a:moveTo>
                  <a:pt x="0" y="0"/>
                </a:moveTo>
                <a:lnTo>
                  <a:pt x="21600" y="0"/>
                </a:lnTo>
                <a:lnTo>
                  <a:pt x="21600" y="25206"/>
                </a:lnTo>
                <a:lnTo>
                  <a:pt x="0" y="25206"/>
                </a:lnTo>
                <a:close/>
              </a:path>
              <a:path fill="lightenLess" w="21600" h="252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6">
                <a:moveTo>
                  <a:pt x="21600" y="0"/>
                </a:moveTo>
                <a:lnTo>
                  <a:pt x="21600" y="25206"/>
                </a:lnTo>
                <a:lnTo>
                  <a:pt x="20200" y="23806"/>
                </a:lnTo>
                <a:lnTo>
                  <a:pt x="20200" y="1400"/>
                </a:lnTo>
                <a:close/>
              </a:path>
              <a:path fill="darkenLess" w="21600" h="25206">
                <a:moveTo>
                  <a:pt x="21600" y="25206"/>
                </a:moveTo>
                <a:lnTo>
                  <a:pt x="0" y="25206"/>
                </a:lnTo>
                <a:lnTo>
                  <a:pt x="1400" y="23806"/>
                </a:lnTo>
                <a:lnTo>
                  <a:pt x="20200" y="23806"/>
                </a:lnTo>
                <a:close/>
              </a:path>
              <a:path fill="lighten" w="21600" h="25206">
                <a:moveTo>
                  <a:pt x="0" y="252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704" name="Action Button: Forward or Next 5"/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707" name="Action Button: Back or Previous 5"/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5" descr="PH01046J.JPG"/>
          <p:cNvPicPr/>
          <p:nvPr/>
        </p:nvPicPr>
        <p:blipFill>
          <a:blip r:embed="rId1"/>
          <a:stretch/>
        </p:blipFill>
        <p:spPr>
          <a:xfrm>
            <a:off x="2538360" y="428760"/>
            <a:ext cx="3890880" cy="5740200"/>
          </a:xfrm>
          <a:prstGeom prst="rect">
            <a:avLst/>
          </a:prstGeom>
          <a:ln w="0">
            <a:noFill/>
          </a:ln>
        </p:spPr>
      </p:pic>
      <p:pic>
        <p:nvPicPr>
          <p:cNvPr id="709" name="Rectangle 3" descr=""/>
          <p:cNvPicPr/>
          <p:nvPr/>
        </p:nvPicPr>
        <p:blipFill>
          <a:blip r:embed="rId2"/>
          <a:stretch/>
        </p:blipFill>
        <p:spPr>
          <a:xfrm>
            <a:off x="225360" y="4406760"/>
            <a:ext cx="8504280" cy="14446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4"/>
          <p:cNvSpPr/>
          <p:nvPr/>
        </p:nvSpPr>
        <p:spPr>
          <a:xfrm>
            <a:off x="1285920" y="928800"/>
            <a:ext cx="214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Georgia"/>
              </a:rPr>
              <a:t>CLICK AI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7"/>
          <p:cNvSpPr/>
          <p:nvPr/>
        </p:nvSpPr>
        <p:spPr>
          <a:xfrm>
            <a:off x="4357800" y="1500120"/>
            <a:ext cx="357120" cy="357120"/>
          </a:xfrm>
          <a:prstGeom prst="ellips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ight Arrow 8"/>
          <p:cNvSpPr/>
          <p:nvPr/>
        </p:nvSpPr>
        <p:spPr>
          <a:xfrm>
            <a:off x="3143160" y="1428840"/>
            <a:ext cx="1143000" cy="50004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19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22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2. ÎN CÂTE GRUPE SUNT ÎMPĂRŢIŢI CARPAŢII MERIDIONALI 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3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2 GRUP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4 GRUP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Action Button: Custom 3">
            <a:hlinkClick r:id="rId1" action="ppaction://hlinksldjump"/>
          </p:cNvPr>
          <p:cNvSpPr/>
          <p:nvPr/>
        </p:nvSpPr>
        <p:spPr>
          <a:xfrm>
            <a:off x="571680" y="257184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ction Button: Custom 4">
            <a:hlinkClick r:id="" action="ppaction://hlinkshowjump?jump=nextslide"/>
          </p:cNvPr>
          <p:cNvSpPr/>
          <p:nvPr/>
        </p:nvSpPr>
        <p:spPr>
          <a:xfrm>
            <a:off x="571680" y="4500720"/>
            <a:ext cx="500040" cy="57132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320"/>
              <a:gd name="textAreaBottom" fmla="*/ 538920 h 571320"/>
            </a:gdLst>
            <a:ahLst/>
            <a:rect l="textAreaLeft" t="textAreaTop" r="textAreaRight" b="textAreaBottom"/>
            <a:pathLst>
              <a:path w="21600" h="24677">
                <a:moveTo>
                  <a:pt x="0" y="0"/>
                </a:moveTo>
                <a:lnTo>
                  <a:pt x="21600" y="0"/>
                </a:lnTo>
                <a:lnTo>
                  <a:pt x="21600" y="24677"/>
                </a:lnTo>
                <a:lnTo>
                  <a:pt x="0" y="24677"/>
                </a:lnTo>
                <a:close/>
              </a:path>
              <a:path fill="lightenLess" w="21600" h="246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7">
                <a:moveTo>
                  <a:pt x="21600" y="0"/>
                </a:moveTo>
                <a:lnTo>
                  <a:pt x="21600" y="24677"/>
                </a:lnTo>
                <a:lnTo>
                  <a:pt x="20200" y="23277"/>
                </a:lnTo>
                <a:lnTo>
                  <a:pt x="20200" y="1400"/>
                </a:lnTo>
                <a:close/>
              </a:path>
              <a:path fill="darkenLess" w="21600" h="24677">
                <a:moveTo>
                  <a:pt x="21600" y="24677"/>
                </a:moveTo>
                <a:lnTo>
                  <a:pt x="0" y="24677"/>
                </a:lnTo>
                <a:lnTo>
                  <a:pt x="1400" y="23277"/>
                </a:lnTo>
                <a:lnTo>
                  <a:pt x="20200" y="23277"/>
                </a:lnTo>
                <a:close/>
              </a:path>
              <a:path fill="lighten" w="21600" h="24677">
                <a:moveTo>
                  <a:pt x="0" y="246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7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ction Button: Custom 5">
            <a:hlinkClick r:id="rId2" action="ppaction://hlinksldjump"/>
          </p:cNvPr>
          <p:cNvSpPr/>
          <p:nvPr/>
        </p:nvSpPr>
        <p:spPr>
          <a:xfrm>
            <a:off x="571680" y="350028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6" descr="DSCF4950.JPG"/>
          <p:cNvPicPr/>
          <p:nvPr/>
        </p:nvPicPr>
        <p:blipFill>
          <a:blip r:embed="rId3"/>
          <a:stretch/>
        </p:blipFill>
        <p:spPr>
          <a:xfrm>
            <a:off x="3143160" y="150012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31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Rectangle 3" descr=""/>
          <p:cNvPicPr/>
          <p:nvPr/>
        </p:nvPicPr>
        <p:blipFill>
          <a:blip r:embed="rId1"/>
          <a:stretch/>
        </p:blipFill>
        <p:spPr>
          <a:xfrm>
            <a:off x="3475080" y="2498760"/>
            <a:ext cx="4913280" cy="3548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PE00578_.WMF"/>
          <p:cNvPicPr/>
          <p:nvPr/>
        </p:nvPicPr>
        <p:blipFill>
          <a:blip r:embed="rId2"/>
          <a:stretch/>
        </p:blipFill>
        <p:spPr>
          <a:xfrm>
            <a:off x="1357200" y="1857240"/>
            <a:ext cx="2994120" cy="2911680"/>
          </a:xfrm>
          <a:prstGeom prst="rect">
            <a:avLst/>
          </a:prstGeom>
          <a:ln w="0">
            <a:noFill/>
          </a:ln>
        </p:spPr>
      </p:pic>
      <p:sp>
        <p:nvSpPr>
          <p:cNvPr id="634" name="Action Button: Back or Previous 5">
            <a:hlinkClick r:id="rId3" action="ppaction://hlinksldjump"/>
          </p:cNvPr>
          <p:cNvSpPr/>
          <p:nvPr/>
        </p:nvSpPr>
        <p:spPr>
          <a:xfrm>
            <a:off x="7072200" y="5500800"/>
            <a:ext cx="1285920" cy="357120"/>
          </a:xfrm>
          <a:custGeom>
            <a:avLst/>
            <a:gdLst>
              <a:gd name="textAreaLeft" fmla="*/ 23040 w 1285920"/>
              <a:gd name="textAreaRight" fmla="*/ 1262880 w 12859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77721" h="21600">
                <a:moveTo>
                  <a:pt x="0" y="0"/>
                </a:moveTo>
                <a:lnTo>
                  <a:pt x="77721" y="0"/>
                </a:lnTo>
                <a:lnTo>
                  <a:pt x="77721" y="21600"/>
                </a:lnTo>
                <a:lnTo>
                  <a:pt x="0" y="21600"/>
                </a:lnTo>
                <a:close/>
              </a:path>
              <a:path fill="lightenLess" w="77721" h="21600">
                <a:moveTo>
                  <a:pt x="0" y="0"/>
                </a:moveTo>
                <a:lnTo>
                  <a:pt x="77721" y="0"/>
                </a:lnTo>
                <a:lnTo>
                  <a:pt x="76321" y="1400"/>
                </a:lnTo>
                <a:lnTo>
                  <a:pt x="1400" y="1400"/>
                </a:lnTo>
                <a:close/>
              </a:path>
              <a:path fill="darken" w="77721" h="21600">
                <a:moveTo>
                  <a:pt x="77721" y="0"/>
                </a:moveTo>
                <a:lnTo>
                  <a:pt x="77721" y="21600"/>
                </a:lnTo>
                <a:lnTo>
                  <a:pt x="76321" y="20200"/>
                </a:lnTo>
                <a:lnTo>
                  <a:pt x="76321" y="1400"/>
                </a:lnTo>
                <a:close/>
              </a:path>
              <a:path fill="darkenLess" w="77721" h="21600">
                <a:moveTo>
                  <a:pt x="77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21" y="20200"/>
                </a:lnTo>
                <a:close/>
              </a:path>
              <a:path fill="lighten" w="77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721" h="21600">
                <a:moveTo>
                  <a:pt x="31854" y="10800"/>
                </a:moveTo>
                <a:lnTo>
                  <a:pt x="45867" y="3794"/>
                </a:lnTo>
                <a:lnTo>
                  <a:pt x="45867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7b9899"/>
                </a:solidFill>
                <a:latin typeface="Georgia"/>
              </a:rPr>
              <a:t>3.VÂRFUL </a:t>
            </a:r>
            <a:r>
              <a:rPr b="0" lang="ro-RO" sz="3000" spc="-1" strike="noStrike">
                <a:solidFill>
                  <a:srgbClr val="ff0000"/>
                </a:solidFill>
                <a:latin typeface="Georgia"/>
              </a:rPr>
              <a:t>OMU </a:t>
            </a:r>
            <a:r>
              <a:rPr b="0" lang="ro-RO" sz="3000" spc="-1" strike="noStrike">
                <a:solidFill>
                  <a:srgbClr val="88a1ad"/>
                </a:solidFill>
                <a:latin typeface="Georgia"/>
              </a:rPr>
              <a:t>FACE PARTE DIN GRUPA MUNŢILOR: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RETEZAT-GODEANU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BUCEG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o-RO" sz="2700" spc="-1" strike="noStrike">
                <a:solidFill>
                  <a:srgbClr val="000000"/>
                </a:solidFill>
                <a:latin typeface="Georgia"/>
              </a:rPr>
              <a:t>PARÂNGULU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3" descr="DSCF4952.JPG"/>
          <p:cNvPicPr/>
          <p:nvPr/>
        </p:nvPicPr>
        <p:blipFill>
          <a:blip r:embed="rId1"/>
          <a:stretch/>
        </p:blipFill>
        <p:spPr>
          <a:xfrm>
            <a:off x="4143240" y="3071880"/>
            <a:ext cx="4357800" cy="3268440"/>
          </a:xfrm>
          <a:prstGeom prst="rect">
            <a:avLst/>
          </a:prstGeom>
          <a:ln w="0">
            <a:noFill/>
          </a:ln>
        </p:spPr>
      </p:pic>
      <p:sp>
        <p:nvSpPr>
          <p:cNvPr id="638" name="Action Button: Custom 4">
            <a:hlinkClick r:id="rId2" action="ppaction://hlinksldjump"/>
          </p:cNvPr>
          <p:cNvSpPr/>
          <p:nvPr/>
        </p:nvSpPr>
        <p:spPr>
          <a:xfrm>
            <a:off x="500040" y="242892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ction Button: Custom 5">
            <a:hlinkClick r:id="rId3" action="ppaction://hlinksldjump"/>
          </p:cNvPr>
          <p:cNvSpPr/>
          <p:nvPr/>
        </p:nvSpPr>
        <p:spPr>
          <a:xfrm>
            <a:off x="500040" y="4572000"/>
            <a:ext cx="428760" cy="50004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040"/>
              <a:gd name="textAreaBottom" fmla="*/ 472320 h 500040"/>
            </a:gdLst>
            <a:ahLst/>
            <a:rect l="textAreaLeft" t="textAreaTop" r="textAreaRight" b="textAreaBottom"/>
            <a:pathLst>
              <a:path w="21600" h="25188">
                <a:moveTo>
                  <a:pt x="0" y="0"/>
                </a:moveTo>
                <a:lnTo>
                  <a:pt x="21600" y="0"/>
                </a:lnTo>
                <a:lnTo>
                  <a:pt x="21600" y="25188"/>
                </a:lnTo>
                <a:lnTo>
                  <a:pt x="0" y="25188"/>
                </a:lnTo>
                <a:close/>
              </a:path>
              <a:path fill="lightenLess" w="21600" h="251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8">
                <a:moveTo>
                  <a:pt x="21600" y="0"/>
                </a:moveTo>
                <a:lnTo>
                  <a:pt x="21600" y="25188"/>
                </a:lnTo>
                <a:lnTo>
                  <a:pt x="20200" y="23788"/>
                </a:lnTo>
                <a:lnTo>
                  <a:pt x="20200" y="1400"/>
                </a:lnTo>
                <a:close/>
              </a:path>
              <a:path fill="darkenLess" w="21600" h="25188">
                <a:moveTo>
                  <a:pt x="21600" y="25188"/>
                </a:moveTo>
                <a:lnTo>
                  <a:pt x="0" y="25188"/>
                </a:lnTo>
                <a:lnTo>
                  <a:pt x="1400" y="23788"/>
                </a:lnTo>
                <a:lnTo>
                  <a:pt x="20200" y="23788"/>
                </a:lnTo>
                <a:close/>
              </a:path>
              <a:path fill="lighten" w="21600" h="25188">
                <a:moveTo>
                  <a:pt x="0" y="251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8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ction Button: Custom 6">
            <a:hlinkClick r:id="" action="ppaction://hlinkshowjump?jump=nextslide"/>
          </p:cNvPr>
          <p:cNvSpPr/>
          <p:nvPr/>
        </p:nvSpPr>
        <p:spPr>
          <a:xfrm>
            <a:off x="500040" y="3500280"/>
            <a:ext cx="428760" cy="500400"/>
          </a:xfrm>
          <a:custGeom>
            <a:avLst/>
            <a:gdLst>
              <a:gd name="textAreaLeft" fmla="*/ 27720 w 428760"/>
              <a:gd name="textAreaRight" fmla="*/ 401040 w 428760"/>
              <a:gd name="textAreaTop" fmla="*/ 27720 h 500400"/>
              <a:gd name="textAreaBottom" fmla="*/ 472680 h 500400"/>
            </a:gdLst>
            <a:ahLst/>
            <a:rect l="textAreaLeft" t="textAreaTop" r="textAreaRight" b="textAreaBottom"/>
            <a:pathLst>
              <a:path w="21600" h="25206">
                <a:moveTo>
                  <a:pt x="0" y="0"/>
                </a:moveTo>
                <a:lnTo>
                  <a:pt x="21600" y="0"/>
                </a:lnTo>
                <a:lnTo>
                  <a:pt x="21600" y="25206"/>
                </a:lnTo>
                <a:lnTo>
                  <a:pt x="0" y="25206"/>
                </a:lnTo>
                <a:close/>
              </a:path>
              <a:path fill="lightenLess" w="21600" h="252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6">
                <a:moveTo>
                  <a:pt x="21600" y="0"/>
                </a:moveTo>
                <a:lnTo>
                  <a:pt x="21600" y="25206"/>
                </a:lnTo>
                <a:lnTo>
                  <a:pt x="20200" y="23806"/>
                </a:lnTo>
                <a:lnTo>
                  <a:pt x="20200" y="1400"/>
                </a:lnTo>
                <a:close/>
              </a:path>
              <a:path fill="darkenLess" w="21600" h="25206">
                <a:moveTo>
                  <a:pt x="21600" y="25206"/>
                </a:moveTo>
                <a:lnTo>
                  <a:pt x="0" y="25206"/>
                </a:lnTo>
                <a:lnTo>
                  <a:pt x="1400" y="23806"/>
                </a:lnTo>
                <a:lnTo>
                  <a:pt x="20200" y="23806"/>
                </a:lnTo>
                <a:close/>
              </a:path>
              <a:path fill="lighten" w="21600" h="25206">
                <a:moveTo>
                  <a:pt x="0" y="252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Rectangle 3" descr=""/>
          <p:cNvPicPr/>
          <p:nvPr/>
        </p:nvPicPr>
        <p:blipFill>
          <a:blip r:embed="rId1"/>
          <a:stretch/>
        </p:blipFill>
        <p:spPr>
          <a:xfrm>
            <a:off x="1200240" y="1305000"/>
            <a:ext cx="7645320" cy="45831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4" descr="MP00646_.WMF"/>
          <p:cNvPicPr/>
          <p:nvPr/>
        </p:nvPicPr>
        <p:blipFill>
          <a:blip r:embed="rId2"/>
          <a:stretch/>
        </p:blipFill>
        <p:spPr>
          <a:xfrm>
            <a:off x="1143000" y="1357200"/>
            <a:ext cx="2689200" cy="2525760"/>
          </a:xfrm>
          <a:prstGeom prst="rect">
            <a:avLst/>
          </a:prstGeom>
          <a:ln w="0">
            <a:noFill/>
          </a:ln>
        </p:spPr>
      </p:pic>
      <p:sp>
        <p:nvSpPr>
          <p:cNvPr id="643" name="Action Button: Forward or Next 5">
            <a:hlinkClick r:id="rId3" action="ppaction://hlinksldjump"/>
          </p:cNvPr>
          <p:cNvSpPr/>
          <p:nvPr/>
        </p:nvSpPr>
        <p:spPr>
          <a:xfrm>
            <a:off x="6429240" y="4929120"/>
            <a:ext cx="1643040" cy="500040"/>
          </a:xfrm>
          <a:custGeom>
            <a:avLst/>
            <a:gdLst>
              <a:gd name="textAreaLeft" fmla="*/ 32400 w 1643040"/>
              <a:gd name="textAreaRight" fmla="*/ 1610640 w 16430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70938" h="21600">
                <a:moveTo>
                  <a:pt x="0" y="0"/>
                </a:moveTo>
                <a:lnTo>
                  <a:pt x="70938" y="0"/>
                </a:lnTo>
                <a:lnTo>
                  <a:pt x="70938" y="21600"/>
                </a:lnTo>
                <a:lnTo>
                  <a:pt x="0" y="21600"/>
                </a:lnTo>
                <a:close/>
              </a:path>
              <a:path fill="lightenLess" w="70938" h="21600">
                <a:moveTo>
                  <a:pt x="0" y="0"/>
                </a:moveTo>
                <a:lnTo>
                  <a:pt x="70938" y="0"/>
                </a:lnTo>
                <a:lnTo>
                  <a:pt x="69538" y="1400"/>
                </a:lnTo>
                <a:lnTo>
                  <a:pt x="1400" y="1400"/>
                </a:lnTo>
                <a:close/>
              </a:path>
              <a:path fill="darken" w="70938" h="21600">
                <a:moveTo>
                  <a:pt x="70938" y="0"/>
                </a:moveTo>
                <a:lnTo>
                  <a:pt x="70938" y="21600"/>
                </a:lnTo>
                <a:lnTo>
                  <a:pt x="69538" y="20200"/>
                </a:lnTo>
                <a:lnTo>
                  <a:pt x="69538" y="1400"/>
                </a:lnTo>
                <a:close/>
              </a:path>
              <a:path fill="darkenLess" w="70938" h="21600">
                <a:moveTo>
                  <a:pt x="70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8" y="20200"/>
                </a:lnTo>
                <a:close/>
              </a:path>
              <a:path fill="lighten" w="70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938" h="21600">
                <a:moveTo>
                  <a:pt x="28463" y="3794"/>
                </a:moveTo>
                <a:lnTo>
                  <a:pt x="42476" y="10800"/>
                </a:lnTo>
                <a:lnTo>
                  <a:pt x="28463" y="17806"/>
                </a:lnTo>
                <a:close/>
              </a:path>
            </a:pathLst>
          </a:cu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3:50:10Z</dcterms:created>
  <dc:creator>ANGELICA</dc:creator>
  <dc:description/>
  <dc:language>en-US</dc:language>
  <cp:lastModifiedBy>ANGELICA</cp:lastModifiedBy>
  <dcterms:modified xsi:type="dcterms:W3CDTF">2009-04-03T03:54:42Z</dcterms:modified>
  <cp:revision>11</cp:revision>
  <dc:subject/>
  <dc:title>CARPAŢII MERIDIONALI</dc:title>
</cp:coreProperties>
</file>